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6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C0827-62A8-4757-8245-283DF3BA4E1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5754A-59DF-4EC2-8FAD-77E909258072}" type="slidenum"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7843-D30C-4D0E-A668-B1A2E2EB5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BADE-8403-442C-9E05-F2F9EAB0F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701B-6A78-4F5D-B5CC-38C346C94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C9AB-0A44-4460-BF96-F00C0FF08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F1629-5BB7-48CF-B4EA-7F9BF448E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69CBB-4783-4587-91BF-073BFBB9F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6982A-081E-46BB-9844-909C3C9B4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BE9A3-A4F2-48EA-A79D-7BCA35661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264D1-FE88-4EE6-8BBF-09C1AC98C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8021D-7E8D-45AA-B830-7F0EB6169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6C330-2EED-4BAF-BB74-0D4FC51C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59D5-A5F1-4D4A-92B4-8C29DC349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68FB5-5F4F-4CDA-BBDF-2408558B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78049-7C68-4751-B464-5F7ED07F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1BD62-E109-4AD8-8C83-908A73F6E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EDB08-0DDD-418C-9FB9-B5B2F42B1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A03C1-85D8-4849-AFFB-C2D7D04DE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2B9CA5-620B-4371-9201-2566D4371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3E8D40-2952-4617-B706-0B58D6102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B6EDC3-4E27-4170-92BE-79411896D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099A43-6DF7-422B-A5D4-99EA98C1F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9026EC-E91C-439C-8CFC-4796DFF5D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B948-92C8-44AD-A240-BF9E2F89D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79A815-1266-4ACC-B2F0-F84CE427B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FB5D67-C06F-4E50-9CB5-C554401A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2E9572-1930-4366-8DE7-A1BDFA8E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535C2F-ECB5-47C9-A9A0-ECF482C2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392F11-8D4C-4BEA-B7B1-AD45939B7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56A58A-BE56-44ED-B1C5-89E281067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26C1DA-458B-4448-999A-3874AA86F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B3FB64-1F9F-46BE-9FCE-F3C1EEF48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D22FB7-CDE5-410F-97A8-7F9756CF2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E8B18C-5B1D-4147-8652-B5307CFEE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AE80-B761-479C-9137-80D77627D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3F24D8-8079-4987-A071-186FE24E6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1C1F25-8C10-4205-AE88-3C769B4C5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70F24E-5998-4452-8701-2F321B6A0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069D79-37C7-4F8C-A967-F46CCF9E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951700-4C08-4E72-87A5-9E37FBA7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CCC7B8-7257-478B-8018-F1E32D5B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166C00-6EB7-4270-8723-0352C341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C045C9-5629-4AAF-9EA5-EDC0DDF26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53C774-605C-4F88-8D07-28615AC15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FAAF5F-B756-4AE3-AEC7-CD7A705F3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39FB-D6B1-40BE-BED5-5A18E701B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A47738-7359-4DD0-9360-CB1697471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59C05D-F23B-41B8-BC73-F5945B99A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D243E2-64D6-4D99-A16B-8CAEFE3D2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5AB15B-0C66-4A36-AD44-A04A64D92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5D2D14-F4D2-406E-8C08-64F7026A3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EE0B8B-B7F8-418E-96D3-4A3B1230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9126D1-4698-4215-8C19-69D496E8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C4594A-EC09-40FB-9DC6-1660C568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81CB32-04A4-4EDF-8B70-B68D2EAB4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0FA4CB-4296-4B41-9188-913BA190C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3041-58F8-4360-A92F-2A67E0AC3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3874AF-CD6B-4519-B4FE-B05AE9CCB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652C7-1357-43C7-82A8-B33EBBB58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13F9B-2EA0-4D4D-AB5A-F0974227A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5617E-526C-43B5-B954-EF7549F1E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2C38D-3600-464E-9DEE-010E90C8E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0C722F-11C3-4F9A-A258-C611A34B6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3DC8C-E0D9-4028-8E2D-6A41CB8BF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5FF6B-8FB9-4D2A-A47C-4360FB8C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63ADD-B9CB-4BD8-96D1-2CE448E6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9021A-FC9F-47A0-97D1-08603BD5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3779-CED3-4CA3-9C02-E1470D57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5B78D-5A65-4D12-A48B-B03D14F1B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A56A9-1188-4622-A7DF-5F48A713B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26A4A-E4CB-4545-9754-DDFA6C124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10C633-8A1B-43EB-A6BD-869AAFC4D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35BC01-F328-42E9-9B6C-6FD42A4F3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CD52A2-873C-4568-8CEC-423DA2277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4ED442-1F16-4705-8ACF-54687B0DD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125608-41A0-4B16-84CB-DE60B711A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5B5CDE-3AD1-4F15-A4A2-5E492DFF0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C8E220-D3DA-48F9-BF74-14C1F251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42BB-6331-45D7-A941-D9D76F46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7075AE-11E2-43F0-983B-07FDD4AA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3A4DF7-40B8-41AA-83DB-EE4B3064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FA9C09-55AA-43B9-9012-5BBCCF427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4435FD-4CB1-4EEA-BB88-CF5ED5A3E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6918DC-FCE4-4DEF-8287-7AD158B60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E817AD-E805-47DC-AE9D-922BA7BD2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886550-57F3-4C45-A191-8AF5D8F91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453C93-FB3E-4B9E-AE0C-2C39ABA59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52657E-1383-43FE-B74E-185835DA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F646F0-E695-448E-AF6A-E05CA80B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B449-0F8D-47C4-A47F-94B64B20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A60FAC-119A-495E-B487-A29A02DFC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019DFE-1DA4-46C1-B77B-F1458523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728186-B531-49B9-B993-5DA55A70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F7ACE-00A2-475E-839A-0A47AD36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A1880E-44C3-49E9-8DC7-8AD9A88BB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CEA2A-4599-49E6-8F87-FECC63827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907DC-E5AF-4AF0-B7E0-D839D87A9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47CCE-49CB-465A-B196-D34E8BA383CE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28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22ADF-4EC6-45F1-A099-D64C25F1C3A7}" type="slidenum"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43A9D-217F-4557-928E-17FA8096ED40}" type="datetime">
              <a:rPr b="0" lang="fr-FR" sz="21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201FC-4567-4B84-A283-70A7B1CBB293}" type="slidenum">
              <a:rPr b="1" lang="fr-FR" sz="16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E0549-D29B-4020-A915-586406D07912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28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CAC58-3729-4911-81DD-81D99BCC863F}" type="slidenum">
              <a:rPr b="1" lang="fr-FR" sz="2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AE953-A84E-43B1-A170-3E6191F56EBE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28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F3483-B574-4777-A61B-0B4BD4406B3F}" type="slidenum"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10D7A-51BC-4CF3-A46B-70C936385AA9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28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D7D9-4D69-4380-B5B4-254E0C7CB241}" type="slidenum"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E62EE-2115-4BF3-B2FE-D23F6F4048D6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28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B48FA-2F98-4762-ACAA-873DA4B94B73}" type="slidenum">
              <a:rPr b="1" lang="fr-FR" sz="16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6E3B4-20B8-4A0B-A7F9-31470127C6D8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28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7D9F9-2DDC-4043-BBB3-B8B15D679E89}" type="slidenum">
              <a:rPr b="1" lang="fr-FR" sz="2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>
            <a:alpha val="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751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45880">
              <a:spcBef>
                <a:spcPts val="751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3" marL="1476360" indent="-245880">
              <a:spcBef>
                <a:spcPts val="751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4" marL="1968480" indent="-245880">
              <a:spcBef>
                <a:spcPts val="751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5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6" marL="1968480" indent="-24588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3178E-AFAC-428D-8533-6AFE7B9DED82}" type="datetime">
              <a:rPr b="0" lang="fr-FR" sz="1600" spc="-1" strike="noStrike">
                <a:solidFill>
                  <a:srgbClr val="775f55"/>
                </a:solidFill>
                <a:latin typeface="Times New Roman"/>
              </a:rPr>
              <a:t>28/07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D0CF2-EF71-43EC-910B-9A3989A9212B}" type="slidenum">
              <a:rPr b="1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Recto.pdf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Fiche%20de%20prise%20en%20charge%20Hospitali&#232;re.doc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7000920" cy="9000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558bb8"/>
                </a:solidFill>
                <a:latin typeface="comic"/>
              </a:rPr>
              <a:t>PRÉSENTATION MSU/LB</a:t>
            </a:r>
            <a:r>
              <a:rPr b="0" lang="fr-FR" sz="4100" spc="-1" strike="noStrike">
                <a:solidFill>
                  <a:srgbClr val="558bb8"/>
                </a:solidFill>
                <a:latin typeface="Tw Cen MT"/>
              </a:rPr>
              <a:t> </a:t>
            </a:r>
            <a:endParaRPr b="0" lang="en-US" sz="41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899640" y="1915920"/>
            <a:ext cx="7272360" cy="8650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62626"/>
                </a:solidFill>
                <a:latin typeface="Tw Cen MT"/>
              </a:rPr>
              <a:t>Atelier sur l’Assurance Maladie Universelle</a:t>
            </a:r>
            <a:br>
              <a:rPr sz="800"/>
            </a:b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262626"/>
                </a:solidFill>
                <a:latin typeface="Tw Cen MT"/>
              </a:rPr>
              <a:t>                                             </a:t>
            </a:r>
            <a:endParaRPr b="0" lang="en-US" sz="800" spc="-1" strike="noStrike">
              <a:solidFill>
                <a:srgbClr val="ffffff"/>
              </a:solidFill>
              <a:latin typeface="Tw Cen MT"/>
            </a:endParaRPr>
          </a:p>
          <a:p>
            <a:pPr indent="0" algn="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4" name="Rectangle 7"/>
          <p:cNvSpPr/>
          <p:nvPr/>
        </p:nvSpPr>
        <p:spPr>
          <a:xfrm>
            <a:off x="76320" y="6068880"/>
            <a:ext cx="2057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F4815-DEDA-4A10-8CBD-05E0BAE1CC8C}" type="datetime">
              <a:rPr b="0" lang="fr-FR" sz="2100" spc="-1" strike="noStrike">
                <a:solidFill>
                  <a:srgbClr val="ffffff"/>
                </a:solidFill>
                <a:latin typeface="Arial"/>
                <a:ea typeface="Arial"/>
              </a:rPr>
              <a:t>28/07/26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9"/>
          <p:cNvSpPr/>
          <p:nvPr/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30F24-A9F9-446A-93B8-F43229F6E194}" type="slidenum">
              <a:rPr b="1" lang="fr-FR" sz="1600" spc="-1" strike="noStrike">
                <a:solidFill>
                  <a:srgbClr val="ebddc3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8" descr=""/>
          <p:cNvPicPr/>
          <p:nvPr/>
        </p:nvPicPr>
        <p:blipFill>
          <a:blip r:embed="rId1"/>
          <a:stretch/>
        </p:blipFill>
        <p:spPr>
          <a:xfrm>
            <a:off x="7143840" y="142920"/>
            <a:ext cx="1571400" cy="1071360"/>
          </a:xfrm>
          <a:prstGeom prst="rect">
            <a:avLst/>
          </a:prstGeom>
          <a:ln w="0">
            <a:noFill/>
          </a:ln>
        </p:spPr>
      </p:pic>
      <p:sp>
        <p:nvSpPr>
          <p:cNvPr id="377" name="ZoneTexte 1"/>
          <p:cNvSpPr/>
          <p:nvPr/>
        </p:nvSpPr>
        <p:spPr>
          <a:xfrm>
            <a:off x="539640" y="3933720"/>
            <a:ext cx="79930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262626"/>
                </a:solidFill>
                <a:latin typeface="Tw Cen MT"/>
              </a:rPr>
              <a:t>Expérience de la Mutuelle de Santé Urbaine Laafi Baoré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900" spc="-1" strike="noStrike">
                <a:solidFill>
                  <a:srgbClr val="262626"/>
                </a:solidFill>
                <a:latin typeface="Tw Cen MT"/>
              </a:rPr>
              <a:t>                                                                                             </a:t>
            </a:r>
            <a:r>
              <a:rPr b="1" i="1" lang="fr-FR" sz="1900" spc="-1" strike="noStrike">
                <a:solidFill>
                  <a:srgbClr val="262626"/>
                </a:solidFill>
                <a:latin typeface="Tw Cen MT"/>
              </a:rPr>
              <a:t>Par Marcel ZAN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100" spc="-1" strike="noStrike">
                <a:solidFill>
                  <a:srgbClr val="262626"/>
                </a:solidFill>
                <a:latin typeface="Tw Cen MT"/>
              </a:rPr>
              <a:t>                                                                                                                                                                    </a:t>
            </a:r>
            <a:r>
              <a:rPr b="1" i="1" lang="fr-FR" sz="2000" spc="-1" strike="noStrike" u="sng">
                <a:solidFill>
                  <a:srgbClr val="262626"/>
                </a:solidFill>
                <a:uFillTx/>
                <a:latin typeface="Tw Cen MT"/>
              </a:rPr>
              <a:t>Président du 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8" descr=""/>
          <p:cNvPicPr/>
          <p:nvPr/>
        </p:nvPicPr>
        <p:blipFill>
          <a:blip r:embed="rId1"/>
          <a:stretch/>
        </p:blipFill>
        <p:spPr>
          <a:xfrm>
            <a:off x="7429680" y="142920"/>
            <a:ext cx="1571400" cy="107136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7696080" cy="7365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775f55"/>
                </a:solidFill>
                <a:latin typeface="Tw Cen MT"/>
              </a:rPr>
              <a:t>III. Prestations prises en charge suite 3</a:t>
            </a:r>
            <a:endParaRPr b="0" lang="en-US" sz="35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0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C33EA-83C2-47E5-AC6B-6A7B7C07BD9F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28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6ACB7-44F3-4AEC-8A98-EBC153AB31C3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356760" y="1571400"/>
            <a:ext cx="8425080" cy="4786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Tw Cen MT"/>
              </a:rPr>
              <a:t>Dans les CMA, CMU et CHU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consultations généralistes et spécialisée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analyses de labo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soins dentaires sans prothèses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soins ophtalmologiques sans lunette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opérations chirurgicale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hospitalisations chirurgicales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hospitalisations médicales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’accouchement dystocique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84240" indent="-295200">
              <a:spcBef>
                <a:spcPts val="587"/>
              </a:spcBef>
              <a:buClr>
                <a:srgbClr val="dd8047"/>
              </a:buClr>
              <a:buSzPct val="75000"/>
              <a:buFont typeface="Wingdings 2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s frais d’hôtellerie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8" descr=""/>
          <p:cNvPicPr/>
          <p:nvPr/>
        </p:nvPicPr>
        <p:blipFill>
          <a:blip r:embed="rId1"/>
          <a:stretch/>
        </p:blipFill>
        <p:spPr>
          <a:xfrm>
            <a:off x="7500960" y="142920"/>
            <a:ext cx="1571760" cy="107136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8153280" cy="7142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775f55"/>
                </a:solidFill>
                <a:latin typeface="Tw Cen MT"/>
              </a:rPr>
              <a:t>IV. Statistiques d’évolution de la MSU/LB </a:t>
            </a:r>
            <a:endParaRPr b="0" lang="en-US" sz="35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214200" y="1214280"/>
          <a:ext cx="8715600" cy="5643720"/>
        </p:xfrm>
        <a:graphic>
          <a:graphicData uri="http://schemas.openxmlformats.org/drawingml/2006/table">
            <a:tbl>
              <a:tblPr/>
              <a:tblGrid>
                <a:gridCol w="1452600"/>
                <a:gridCol w="1452600"/>
                <a:gridCol w="1452600"/>
                <a:gridCol w="1452600"/>
                <a:gridCol w="1452600"/>
                <a:gridCol w="14526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31-12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31-12-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31-12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31-12-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31-12-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dhér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0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5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énéficiai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8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0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4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tisation recouvr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 016 9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 957 1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0 903 7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 123 1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0 752 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Prise en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 990 9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 785 5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 421 7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 847 3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0 027 1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br de ca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1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x de fréquen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3.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4,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3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6.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4.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x de recouvr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5.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9.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5.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6.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0.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x de sinistrali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8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93.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</a:tbl>
          </a:graphicData>
        </a:graphic>
      </p:graphicFrame>
      <p:sp>
        <p:nvSpPr>
          <p:cNvPr id="426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F9DCC-7001-46F6-BA99-DFE8CD169312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8" descr=""/>
          <p:cNvPicPr/>
          <p:nvPr/>
        </p:nvPicPr>
        <p:blipFill>
          <a:blip r:embed="rId1"/>
          <a:stretch/>
        </p:blipFill>
        <p:spPr>
          <a:xfrm>
            <a:off x="7429680" y="0"/>
            <a:ext cx="1571400" cy="107172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14200" y="356760"/>
            <a:ext cx="7839360" cy="785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V. Difficultés rencontrées et recommandations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0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B7356-3620-4CE6-9873-0F1BF5E4C279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28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Espace réservé du numéro de diapositiv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CC49D-D56E-4699-B262-39578FB49B8A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24000" y="1557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3000"/>
          </a:bodyPr>
          <a:p>
            <a:pPr marL="320400" indent="-32040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Difficultés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Surconsommation et surprescription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 non respect de la convention par les centres de santé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Transmission tardive des factures dont accumulation de factures parfois d’un an et même plus pour certain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e manque de collaboration et le mauvais traitement de certains agents de santé vis-à-vis des mutualiste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a forte demande par les bénéficiaires des produits de spécialités (ceci entraine le désintérêt de la population et la désinscription des membres)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8" descr=""/>
          <p:cNvPicPr/>
          <p:nvPr/>
        </p:nvPicPr>
        <p:blipFill>
          <a:blip r:embed="rId1"/>
          <a:stretch/>
        </p:blipFill>
        <p:spPr>
          <a:xfrm>
            <a:off x="7429680" y="0"/>
            <a:ext cx="1571400" cy="107172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14200" y="356760"/>
            <a:ext cx="7839360" cy="785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V. Difficultés rencontrées et recommandations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5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64CD7-63E3-4F9D-9E92-62AAD710A1CD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28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Espace réservé du numéro de diapositiv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7BD45-A6B7-4695-AC0C-45723868E28A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24000" y="1557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89000"/>
          </a:bodyPr>
          <a:p>
            <a:pPr marL="306360" indent="-30636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Recommandatio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13080" indent="-26244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Mettre des médecins conseil à la disposition des mutuelle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13080" indent="-26244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Appuyer les mutuelles dans la sensibilisation des agents de santé,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13080" indent="-26244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Enseigner des modules sur l’assurance maladie et les mutuelles de santé des écoles de formation de santé,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13080" indent="-26244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Travailler à la disponibilité des MEG et sensibiliser la population à leur consommation,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13080" indent="-26244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Renforcer les capacités des responsables et gestionnaires des mutuelles de santé sur le PCMS de l’UEMOA, la loi sur la mutualité sociale du Burkina et l’AMU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13080" indent="-26244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9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9A577-FA36-474D-A781-92E6BAEA5508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28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Espace réservé du numéro de diapositiv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4C463-2373-463C-8D98-EA58E6D51962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marL="344520" indent="-344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marL="344520" indent="-34452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900" spc="-1" strike="noStrike">
                <a:solidFill>
                  <a:srgbClr val="009900"/>
                </a:solidFill>
                <a:latin typeface="comic"/>
              </a:rPr>
              <a:t>Merci de votre aimable  attention!</a:t>
            </a:r>
            <a:endParaRPr b="0" lang="en-US" sz="3900" spc="-1" strike="noStrike">
              <a:solidFill>
                <a:srgbClr val="000000"/>
              </a:solidFill>
              <a:latin typeface="Tw Cen MT"/>
            </a:endParaRPr>
          </a:p>
          <a:p>
            <a:pPr marL="344520" indent="-34452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900" spc="-1" strike="noStrike">
                <a:solidFill>
                  <a:srgbClr val="c00000"/>
                </a:solidFill>
                <a:latin typeface="comic"/>
              </a:rPr>
              <a:t>Laafi Baoré, S’unir aujourd'hui pour garantir demain.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44520" indent="-34452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900" spc="-1" strike="noStrike">
                <a:solidFill>
                  <a:srgbClr val="c00000"/>
                </a:solidFill>
                <a:latin typeface="comic"/>
              </a:rPr>
              <a:t>Contacts: 25 36 15 25/71 80 07 97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  <a:p>
            <a:pPr marL="344520" indent="-3445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900" spc="-1" strike="noStrike">
                <a:solidFill>
                  <a:srgbClr val="c00000"/>
                </a:solidFill>
                <a:latin typeface="Tw Cen MT"/>
              </a:rPr>
              <a:t>Mail: msu.laafibaore@yahoo.fr</a:t>
            </a:r>
            <a:endParaRPr b="0" lang="en-US" sz="1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42" name="Picture 8" descr=""/>
          <p:cNvPicPr/>
          <p:nvPr/>
        </p:nvPicPr>
        <p:blipFill>
          <a:blip r:embed="rId1"/>
          <a:stretch/>
        </p:blipFill>
        <p:spPr>
          <a:xfrm>
            <a:off x="7572240" y="214200"/>
            <a:ext cx="157176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62120" y="333360"/>
            <a:ext cx="7696080" cy="7920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 </a:t>
            </a: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PLAN DE PRESENTATION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9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A4A81-BEE6-4483-BB23-490D06B298E6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28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86C83-5B82-4C8E-9C72-2F0EFBC32687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395280" y="2133360"/>
            <a:ext cx="8424720" cy="2663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9000"/>
          </a:bodyPr>
          <a:p>
            <a:pPr marL="565920" indent="-565920">
              <a:spcBef>
                <a:spcPts val="751"/>
              </a:spcBef>
              <a:buClr>
                <a:srgbClr val="dd8047"/>
              </a:buClr>
              <a:buSzPct val="6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Naissance de la MSU-LB </a:t>
            </a: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65920" indent="-565920">
              <a:spcBef>
                <a:spcPts val="751"/>
              </a:spcBef>
              <a:buClr>
                <a:srgbClr val="dd8047"/>
              </a:buClr>
              <a:buSzPct val="6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Conditions d’adhésion et de prise en charg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65920" indent="-565920">
              <a:spcBef>
                <a:spcPts val="751"/>
              </a:spcBef>
              <a:buClr>
                <a:srgbClr val="dd8047"/>
              </a:buClr>
              <a:buSzPct val="6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Prestations prises offert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65920" indent="-565920">
              <a:spcBef>
                <a:spcPts val="751"/>
              </a:spcBef>
              <a:buClr>
                <a:srgbClr val="dd8047"/>
              </a:buClr>
              <a:buSzPct val="6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Statistiques sur l’évolution de la MSU-LB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65920" indent="-565920">
              <a:spcBef>
                <a:spcPts val="751"/>
              </a:spcBef>
              <a:buClr>
                <a:srgbClr val="dd8047"/>
              </a:buClr>
              <a:buSzPct val="60000"/>
              <a:buFont typeface="Tw Cen MT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Difficultés rencontrées et recommandatio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65920" indent="-5659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65920" indent="-5659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2" name="Picture 8" descr=""/>
          <p:cNvPicPr/>
          <p:nvPr/>
        </p:nvPicPr>
        <p:blipFill>
          <a:blip r:embed="rId1"/>
          <a:stretch/>
        </p:blipFill>
        <p:spPr>
          <a:xfrm>
            <a:off x="7358040" y="214200"/>
            <a:ext cx="1571760" cy="1071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7696080" cy="7239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I. NAISSANCE DE LA MSU.LB  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4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02BD5-60EA-49AD-95B9-BBC358BB553F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28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Espace réservé du numéro de diapositiv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7024B-B616-49F6-AD33-FA02EF0E25C8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57120" y="1285560"/>
            <a:ext cx="8353440" cy="46083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89000"/>
          </a:bodyPr>
          <a:p>
            <a:pPr marL="306360" indent="-306360" algn="just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w Cen MT"/>
              </a:rPr>
              <a:t>Née de la volonté d’un certain nombre d’organisation de la société civile et d’entreprises (08),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360" indent="-306360" algn="just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w Cen MT"/>
              </a:rPr>
              <a:t>Réalisée son étude de faisabilité sous la houlette du RAMS.BF,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360" indent="-306360" algn="just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w Cen MT"/>
              </a:rPr>
              <a:t>Tenue de son AGC le 30 juin 2006,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360" indent="-306360" algn="just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w Cen MT"/>
              </a:rPr>
              <a:t>Le lancement officiel 28 février 2007 au CMA du 30 sous la présidence du MTSS et le parrainage du Maire de la Commune de Ouagadougou de l’époqu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06360" indent="-306360" algn="just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Début des prestations en 1</a:t>
            </a:r>
            <a:r>
              <a:rPr b="0" lang="fr-FR" sz="2900" spc="-1" strike="noStrike" baseline="30000">
                <a:solidFill>
                  <a:srgbClr val="000000"/>
                </a:solidFill>
                <a:latin typeface="Tw Cen MT"/>
              </a:rPr>
              <a:t>er</a:t>
            </a: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 avril 2007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360" indent="-306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7" name="Picture 8" descr=""/>
          <p:cNvPicPr/>
          <p:nvPr/>
        </p:nvPicPr>
        <p:blipFill>
          <a:blip r:embed="rId1"/>
          <a:stretch/>
        </p:blipFill>
        <p:spPr>
          <a:xfrm>
            <a:off x="7143840" y="142920"/>
            <a:ext cx="157140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85880" y="428760"/>
            <a:ext cx="7696080" cy="720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I. NAISSANCE DE LA MSU.LB (suite)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9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69A6B-83DE-4C49-B52A-745E9A6A073E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28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8EAAB-D94F-4EA6-85FD-44C74809C878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57120" y="1714680"/>
            <a:ext cx="8175600" cy="46656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4000"/>
          </a:bodyPr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Le public cible de départ était constitué des membres des organisations mères de la mutuelle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Chaque organisation a constitué une section,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Au sein de chaque section il y a un bureau de la MSU-LB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Ce bureau est chargé de l’animation, l’enregistrement de nouveaux adhérents, de collecte des cotisations et de la gestion de la section,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Une section (inter pro) s’est créée qui regroupe des personnes n’appartenant à aucune de ces organisations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Toutes les adhésions et cotisations sont reversées à l’unité gestion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w Cen MT"/>
              </a:rPr>
              <a:t>   </a:t>
            </a:r>
            <a:endParaRPr b="0" lang="en-US" sz="9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  <a:p>
            <a:pPr marL="277200" indent="-277200" algn="just">
              <a:lnSpc>
                <a:spcPct val="80000"/>
              </a:lnSpc>
              <a:spcBef>
                <a:spcPts val="624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2" name="Picture 8" descr=""/>
          <p:cNvPicPr/>
          <p:nvPr/>
        </p:nvPicPr>
        <p:blipFill>
          <a:blip r:embed="rId1"/>
          <a:stretch/>
        </p:blipFill>
        <p:spPr>
          <a:xfrm>
            <a:off x="7143840" y="142920"/>
            <a:ext cx="157140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56760" y="213840"/>
            <a:ext cx="7696440" cy="1079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II. Conditions de d’adhésion et de prise en charge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4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DB2B-CF8C-4E4E-9371-0E54E6FC556E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28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794CE-9009-424E-B866-9AEE9E37186B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68000" y="1988640"/>
            <a:ext cx="8351640" cy="4319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3000"/>
          </a:bodyPr>
          <a:p>
            <a:pPr marL="320400" indent="-32040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Tw Cen MT"/>
              </a:rPr>
              <a:t>Conditions d’adhésion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Paiement de frais d’adhésion de 2 500 frs pour une famille de 5 personnes (</a:t>
            </a:r>
            <a:r>
              <a:rPr b="0" lang="fr-FR" sz="2700" spc="-1" strike="noStrike">
                <a:solidFill>
                  <a:srgbClr val="009900"/>
                </a:solidFill>
                <a:latin typeface="Tw Cen MT"/>
              </a:rPr>
              <a:t>adhérent + conjoint + enfants à charge de moins de 18 ans</a:t>
            </a: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Versement de cotisation de 12 000 frs par personne et par an.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Verser au moins 6 mois de cotisation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40800" indent="-2743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Apporter une copie simple d’extrait de naissance ou CNIB ou passeport et une photo de chaque inscrit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7" name="Picture 8" descr=""/>
          <p:cNvPicPr/>
          <p:nvPr/>
        </p:nvPicPr>
        <p:blipFill>
          <a:blip r:embed="rId1"/>
          <a:stretch/>
        </p:blipFill>
        <p:spPr>
          <a:xfrm>
            <a:off x="7572240" y="142920"/>
            <a:ext cx="135756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8" descr=""/>
          <p:cNvPicPr/>
          <p:nvPr/>
        </p:nvPicPr>
        <p:blipFill>
          <a:blip r:embed="rId1"/>
          <a:stretch/>
        </p:blipFill>
        <p:spPr>
          <a:xfrm>
            <a:off x="7429680" y="214200"/>
            <a:ext cx="1571400" cy="107172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28760" y="404280"/>
            <a:ext cx="8029440" cy="8636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II. Conditions de d’adhésion et de prise en charge suite1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0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70B0D-85F3-4216-86AF-91B02BA3D3B9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28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DC766-5D0E-48A4-AD1A-8BBFE22DF22D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95280" y="1628640"/>
            <a:ext cx="8353440" cy="4608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100" spc="-1" strike="noStrike">
                <a:solidFill>
                  <a:srgbClr val="000000"/>
                </a:solidFill>
                <a:latin typeface="Tw Cen MT"/>
              </a:rPr>
              <a:t>Conditions de prise en charge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Observer une période de stage de 03 moi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Se rendre dans une des </a:t>
            </a:r>
            <a:r>
              <a:rPr b="0" lang="fr-FR" sz="2700" spc="-1" strike="noStrike">
                <a:solidFill>
                  <a:srgbClr val="009900"/>
                </a:solidFill>
                <a:latin typeface="Tw Cen MT"/>
              </a:rPr>
              <a:t>26</a:t>
            </a: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 formations sanitaires conventionnées (</a:t>
            </a:r>
            <a:r>
              <a:rPr b="0" lang="fr-FR" sz="2700" spc="-1" strike="noStrike">
                <a:solidFill>
                  <a:srgbClr val="009900"/>
                </a:solidFill>
                <a:latin typeface="Tw Cen MT"/>
              </a:rPr>
              <a:t>10 CSPS, 6 CM, 3 CMU, 5 CMA, l’OST et le CHU-YO</a:t>
            </a: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Accepter la prise en charge de 70%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Présenter sa </a:t>
            </a:r>
            <a:r>
              <a:rPr b="0" lang="fr-FR" sz="2700" spc="-1" strike="noStrike" u="sng">
                <a:solidFill>
                  <a:srgbClr val="f7b615"/>
                </a:solidFill>
                <a:uFillTx/>
                <a:latin typeface="Tw Cen MT"/>
                <a:hlinkClick r:id="rId2"/>
              </a:rPr>
              <a:t>carte </a:t>
            </a: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de membr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Payer un ticket modérateur de 30%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89040" indent="-29520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8" descr=""/>
          <p:cNvPicPr/>
          <p:nvPr/>
        </p:nvPicPr>
        <p:blipFill>
          <a:blip r:embed="rId1"/>
          <a:stretch/>
        </p:blipFill>
        <p:spPr>
          <a:xfrm>
            <a:off x="7572240" y="142920"/>
            <a:ext cx="1571760" cy="107136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85480" y="357120"/>
            <a:ext cx="8186760" cy="774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II. Conditions de d’adhésion et de prise en charge </a:t>
            </a:r>
            <a:br>
              <a:rPr sz="2800"/>
            </a:b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suite2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5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CB077-DE4B-4716-8AB8-D5E2968427F9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28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Espace réservé du numéro de diapositiv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A51FD-EADE-454D-8CDB-F640FB77D68A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56760" y="1785600"/>
            <a:ext cx="8286840" cy="4403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9000"/>
          </a:bodyPr>
          <a:p>
            <a:pPr lvl="1" marL="340920" indent="-3409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100" spc="-1" strike="noStrike">
                <a:solidFill>
                  <a:srgbClr val="000000"/>
                </a:solidFill>
                <a:latin typeface="Tw Cen MT"/>
              </a:rPr>
              <a:t>Circuit de prise en charge 1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340920" indent="-3409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Présenter votre carte de membre au guichet de la formation sanitaire,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340920" indent="-3409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La prise en charge au CHU-YO est faite sur présentation d’une </a:t>
            </a:r>
            <a:r>
              <a:rPr b="0" lang="fr-FR" sz="2500" spc="-1" strike="noStrike" u="sng">
                <a:solidFill>
                  <a:srgbClr val="f7b615"/>
                </a:solidFill>
                <a:uFillTx/>
                <a:latin typeface="Tw Cen MT"/>
                <a:hlinkClick r:id="rId2"/>
              </a:rPr>
              <a:t>fiche de PEC </a:t>
            </a: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délivrée par l’UG,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340920" indent="-3409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Payer les 30% de vos frais médicaux: consultation, examen, hospitalisation…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340920" indent="-3409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En cas d’ordonnance présentez votre carte au dépôt pharmaceutique de la formation sanitaire,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340920" indent="-3409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Tw Cen MT"/>
              </a:rPr>
              <a:t>Payer les 30% des frais d’ordonnances (MEG)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340920" indent="-3409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40920" indent="-3409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8" descr=""/>
          <p:cNvPicPr/>
          <p:nvPr/>
        </p:nvPicPr>
        <p:blipFill>
          <a:blip r:embed="rId1"/>
          <a:stretch/>
        </p:blipFill>
        <p:spPr>
          <a:xfrm>
            <a:off x="7143840" y="142920"/>
            <a:ext cx="1571400" cy="107136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775f55"/>
                </a:solidFill>
                <a:latin typeface="Tw Cen MT"/>
              </a:rPr>
              <a:t>II. Conditions de d’adhésion et de prise en charge suite3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0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9C25A-7F48-4E76-ACB2-6A8283908549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28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Espace réservé du numéro de diapositiv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95FF6-7841-4FDA-BAE5-FBC64D8102C5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28760" y="1904760"/>
            <a:ext cx="8501040" cy="44766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7000"/>
          </a:bodyPr>
          <a:p>
            <a:pPr lvl="1" marL="334080" indent="-33408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Tw Cen MT"/>
              </a:rPr>
              <a:t>Circuit de prise en charge 2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lvl="1" marL="334080" indent="-33408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En cas de rupture de médicaments au dépôt,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334080" indent="-33408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Achetez vos médicaments dans une pharmacie de la place à la totalité du montant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334080" indent="-33408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Adressez une demande de remboursement au PCA de la MSU/LB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2" marL="954360" indent="-238320">
              <a:spcBef>
                <a:spcPts val="53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9900"/>
                </a:solidFill>
                <a:latin typeface="Tw Cen MT"/>
              </a:rPr>
              <a:t>Pièces jointes (reçu d’achat, ordonnances)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2" marL="954360" indent="-238320">
              <a:spcBef>
                <a:spcPts val="53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9900"/>
                </a:solidFill>
                <a:latin typeface="Tw Cen MT"/>
              </a:rPr>
              <a:t>Même procédure si vous n’a pas été traité en que mutualiste (en cas d’oubli de votre carte par exemple)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286200" indent="-286200">
              <a:spcBef>
                <a:spcPts val="624"/>
              </a:spcBef>
              <a:buClr>
                <a:srgbClr val="dd8047"/>
              </a:buClr>
              <a:buSzPct val="6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8" descr=""/>
          <p:cNvPicPr/>
          <p:nvPr/>
        </p:nvPicPr>
        <p:blipFill>
          <a:blip r:embed="rId1"/>
          <a:stretch/>
        </p:blipFill>
        <p:spPr>
          <a:xfrm>
            <a:off x="7143840" y="142920"/>
            <a:ext cx="1571400" cy="107136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7696080" cy="9349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775f55"/>
                </a:solidFill>
                <a:latin typeface="Tw Cen MT"/>
              </a:rPr>
              <a:t>III. Prestations prises en charge</a:t>
            </a:r>
            <a:endParaRPr b="0" lang="en-US" sz="35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5" name="Espace réservé de la date 3"/>
          <p:cNvSpPr/>
          <p:nvPr/>
        </p:nvSpPr>
        <p:spPr>
          <a:xfrm>
            <a:off x="609588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54C9B-0753-4E01-A159-B3F234F52D87}" type="datetime">
              <a:rPr b="0" lang="fr-FR" sz="1600" spc="-1" strike="noStrike">
                <a:solidFill>
                  <a:srgbClr val="775f55"/>
                </a:solidFill>
                <a:latin typeface="Arial"/>
                <a:ea typeface="Arial"/>
              </a:rPr>
              <a:t>28/07/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78EF6-7593-4CC8-9E24-19D41EF31606}" type="slidenum">
              <a:rPr b="1" lang="fr-FR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395280" y="1989000"/>
            <a:ext cx="8424720" cy="43927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lvl="1"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100" spc="-1" strike="noStrike">
                <a:solidFill>
                  <a:srgbClr val="000000"/>
                </a:solidFill>
                <a:latin typeface="Tw Cen MT"/>
              </a:rPr>
              <a:t>Dans les CSPS, CM (Les soins ambulatoires)</a:t>
            </a:r>
            <a:endParaRPr b="0" lang="en-US" sz="3100" spc="-1" strike="noStrike">
              <a:solidFill>
                <a:srgbClr val="000000"/>
              </a:solidFill>
              <a:latin typeface="Tw Cen MT"/>
            </a:endParaRPr>
          </a:p>
          <a:p>
            <a:pPr lvl="1" marL="344520" indent="-3445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Les soins ambulatoires : consultation curative, soins infirmiers, petite chirurgie…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344520" indent="-3445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Les Médicaments essentiels génériques (M.E.G.) de la liste nationale des médicaments essentiels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344520" indent="-3445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L’accouchement normal 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344520" indent="-3445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La mise en observation;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344520" indent="-344520">
              <a:spcBef>
                <a:spcPts val="587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w Cen MT"/>
              </a:rPr>
              <a:t>L’évacuation vers le centre de référence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44520" indent="-344520">
              <a:spcBef>
                <a:spcPts val="751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1T11:03:26Z</dcterms:created>
  <dc:creator>NOMBRE B.</dc:creator>
  <dc:description/>
  <dc:language>en-US</dc:language>
  <cp:lastModifiedBy>Poste 12</cp:lastModifiedBy>
  <dcterms:modified xsi:type="dcterms:W3CDTF">2015-06-09T08:42:55Z</dcterms:modified>
  <cp:revision>117</cp:revision>
  <dc:subject/>
  <dc:title>Présentation MSU/LB</dc:title>
</cp:coreProperties>
</file>